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F51-F421-4FF2-AE49-CD61DE75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271-9F32-4283-A6B3-ADE401E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F4C-E589-4C53-A6B8-D4749105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6D2-BE9E-4CB4-A5C8-FEDFEDC4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8A0-71BC-4A87-97E9-47038393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326-DC6B-4BD9-A500-BEED3B0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BAD-CA57-47EF-88D1-0930512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6E45-B696-41F0-8D27-CCC45F3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FC8D-C26E-4970-9DF3-D2F4BF0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572-61C9-4FEF-8854-E72D4C3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5748-68E9-41E5-B06A-B0CEA02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582-C141-4687-AE4F-63FE26E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31E7-F491-4ADB-86FB-33065DC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76D3-1BC3-4B3F-A03C-0D741C2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47B-DF82-400E-8F65-677A8CD9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0E2-6B8E-4D0F-B4AF-F2087EBA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B5AA-C350-440D-AB46-C45B9AC7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D76-50E8-45A5-860C-DC002BC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E5D-5FA0-45E1-9089-C671C74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314-9BEF-49CA-A993-978DCDE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619-6FD0-415D-81F9-470BE13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CE3-704D-47E9-80E1-0199FA2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9B7-645F-4610-86E1-51FD7F4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6C1-F43D-4137-86D5-A75C577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46B-5ACA-4BC3-803C-9D2FD309393C}" type="slidenum"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A76-8A72-4568-8E3B-01C6BC2E3CE5}" type="slidenum">
              <a:rPr b="0" lang="de-DE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tinvoegeli@gmx.ch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learning.zhaw.ch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0000"/>
                </a:solidFill>
                <a:latin typeface="Comic Sans MS"/>
              </a:rPr>
              <a:t>Die 3 Moodle Tipps</a:t>
            </a:r>
            <a:br>
              <a:rPr sz="4400"/>
            </a:br>
            <a:r>
              <a:rPr b="0" lang="de-CH" sz="2400" spc="-1" strike="noStrike">
                <a:solidFill>
                  <a:srgbClr val="ff0000"/>
                </a:solidFill>
                <a:latin typeface="Comic Sans MS"/>
              </a:rPr>
              <a:t>von Martin Vögeli (ZHAW)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martinvoegeli@gmx.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+41 76 505 8 5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Comic Sans MS"/>
              </a:rPr>
              <a:t>Tipp 1: Keep i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Aktivität „Forum“ (Typ Q&amp;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Diktat (MP3 von der Lehrpers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Vorlesen (MP3 von den Lernend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Weitere Inf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Moodle-Kurs „English Teachers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Methodik-Wiki in obigem K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Comic Sans MS"/>
              </a:rPr>
              <a:t>Tipp 2: Drill and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Aktivität „Test“ (mit Feedback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Virtuelles Lehrbu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glish Grammar Exerci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Wissenslücken schliess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mic Sans MS"/>
              </a:rPr>
              <a:t>Recht, Sprache und E-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Weitere Inf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Kann auf Anfrage Kontakt herste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Comic Sans MS"/>
              </a:rPr>
              <a:t>Tipp 3: Use a red 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Aktivität „Aufgabe“ (Typ Onlin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Tricks für das Korrigi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omic Sans MS"/>
              </a:rPr>
              <a:t>Weitere Inf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eLearningForum #39 Korrigi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mic Sans MS"/>
              </a:rPr>
              <a:t>FAQ Korrigieren im Helpde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elearning.zhaw.ch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Vögeli</cp:lastModifiedBy>
  <dcterms:modified xsi:type="dcterms:W3CDTF">2008-06-21T11:27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